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F0E-005E-41D2-9B78-1826D1E1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E03-DA06-4F99-86B7-C46797D5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C96-3F82-4A77-A72D-53F10184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D93-38B5-4495-8773-F7516AC6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B82-3113-486F-9B1D-D8BFEFEB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F92-36F7-4766-8CCF-78597911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FFA-3DA1-4BB2-95EE-00EFD0A7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471-2078-46FE-ADFC-3F9FB4C6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96F-1531-4882-9CDB-D06F80E2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C38-18FA-4A21-BA93-3467D99F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093-576D-4324-8681-5ADBE65B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399-8FBF-4CBF-937C-1021E98E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611B-B5BF-44E8-94CA-5665D5198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pratique le soccer depuis que j’ai environ dix ans. C’est mon sport préféré parce que j’aime être active et me dépasser physiqu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tique de manière ludique ou compétitiv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davantage de façon ludique, pour m’amuser avec mes amies. Toutefois, à l’âge de vingt ans, j’ai eu la chance de faire partie d’une équipe pour une sai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Josée Meunier</cp:lastModifiedBy>
  <dcterms:modified xsi:type="dcterms:W3CDTF">2007-11-20T04:10:08Z</dcterms:modified>
  <cp:revision>7</cp:revision>
  <dc:subject/>
  <dc:title>Le chien</dc:title>
</cp:coreProperties>
</file>